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C8C-773C-4187-A180-00AEF8A6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C1F-51B5-4279-9454-A49EFEE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601-23B3-45C0-88A8-1DDADBCE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740-FCBF-46F8-A417-A367DE76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B9D-5A7D-4B4C-89DF-5BEB272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00C-ED7A-46CF-85EB-124E8AF5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CFA-BAED-473F-8D12-A3CA859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125-7227-4E66-AA43-EB75A48D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91C-546C-4FED-9B5D-37660E2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BAD-470E-4D57-95E4-5FBC867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673-09AE-4E38-839B-A77FEB7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0A7-FA72-43C7-9CCA-3011DCF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4E5-BF08-4178-9285-6BCE5343E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072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ческое путешествие по сказк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уси - лебеди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 </a:t>
            </a:r>
            <a:br>
              <a:rPr sz="3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333000"/>
            <a:ext cx="547344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</a:t>
            </a:r>
            <a:r>
              <a:rPr b="1" lang="ru-RU" sz="15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тельное учреждение «ЦРР – детский сад №12 «Берез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00720" y="49291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Ядрихинская И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072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 </a:t>
            </a:r>
            <a:br>
              <a:rPr sz="3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5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26920" y="476280"/>
            <a:ext cx="2498760" cy="1994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5867280" y="3860640"/>
            <a:ext cx="2498760" cy="1994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5867280" y="549360"/>
            <a:ext cx="2498760" cy="19936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71640" y="4076640"/>
            <a:ext cx="2087640" cy="187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348000" y="1989000"/>
            <a:ext cx="2498760" cy="1994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072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 </a:t>
            </a:r>
            <a:br>
              <a:rPr sz="3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5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395280" y="549360"/>
            <a:ext cx="3024360" cy="20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684360" y="3789360"/>
            <a:ext cx="2160360" cy="20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5508720" y="4076640"/>
            <a:ext cx="3024000" cy="208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3564000" y="1557360"/>
            <a:ext cx="1942920" cy="3311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7"/>
          <p:cNvSpPr/>
          <p:nvPr/>
        </p:nvSpPr>
        <p:spPr>
          <a:xfrm>
            <a:off x="5940360" y="765000"/>
            <a:ext cx="2160720" cy="208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072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        </a:t>
            </a:r>
            <a:br>
              <a:rPr sz="3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5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836640"/>
            <a:ext cx="3240360" cy="18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826920" y="4005360"/>
            <a:ext cx="2498760" cy="19936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 rot="10800000">
            <a:off x="5651640" y="4365360"/>
            <a:ext cx="3241440" cy="1655640"/>
          </a:xfrm>
          <a:custGeom>
            <a:avLst/>
            <a:gdLst>
              <a:gd name="textAreaLeft" fmla="*/ 675360 w 3241440"/>
              <a:gd name="textAreaRight" fmla="*/ 2566080 w 3241440"/>
              <a:gd name="textAreaTop" fmla="*/ 344880 h 1655640"/>
              <a:gd name="textAreaBottom" fmla="*/ 131076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3780000" y="1628640"/>
            <a:ext cx="1942920" cy="3311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940360" y="620640"/>
            <a:ext cx="3024360" cy="20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6" name="Picture 4" descr="Презентация на тему: &quot;НАЙДИ ФИГУРУ (развиваем логику) Подумай хорошенько,  какой фигуры не хватает? ?&quot;. Скачать бесплатно и без регистрации."/>
          <p:cNvPicPr/>
          <p:nvPr/>
        </p:nvPicPr>
        <p:blipFill>
          <a:blip r:embed="rId1"/>
          <a:srcRect l="0" t="0" r="22145" b="9843"/>
          <a:stretch/>
        </p:blipFill>
        <p:spPr>
          <a:xfrm>
            <a:off x="1042920" y="333360"/>
            <a:ext cx="7058160" cy="6127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5940360" y="4869000"/>
            <a:ext cx="1490760" cy="9856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9" name="Picture 4" descr="Презентация на тему: &quot;Задание: Какой фигуры не хватает вместо знака  «вопрос»? Выбери из трех фигур и нажми на нее левой кнопкой мышки.&quot;.  Скачать бесплатно и без регистрации."/>
          <p:cNvPicPr/>
          <p:nvPr/>
        </p:nvPicPr>
        <p:blipFill>
          <a:blip r:embed="rId1"/>
          <a:srcRect l="7382" t="9843" r="29527" b="9843"/>
          <a:stretch/>
        </p:blipFill>
        <p:spPr>
          <a:xfrm>
            <a:off x="1116000" y="189000"/>
            <a:ext cx="6769080" cy="64609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5651640" y="4365720"/>
            <a:ext cx="1152360" cy="115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12:33:29Z</dcterms:created>
  <dc:creator>Чиенева Н.Е.</dc:creator>
  <dc:description/>
  <cp:keywords>индивидуализация ранний возраст</cp:keywords>
  <dc:language>en-US</dc:language>
  <cp:lastModifiedBy>Домашний</cp:lastModifiedBy>
  <dcterms:modified xsi:type="dcterms:W3CDTF">2045-10-03T23:30:42Z</dcterms:modified>
  <cp:revision>68</cp:revision>
  <dc:subject/>
  <dc:title>«Индивидуализация предметно-пространственной среды в группе раннего возраста»   </dc:title>
</cp:coreProperties>
</file>